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move the slide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5810-B647-401E-8102-AF82424D7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CE4B-9C3F-44C8-9008-014C88ABD5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D43-6B7B-4107-80B7-D197C55A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A08-B8A5-4C5E-8B2B-C74EA1B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EBD-B84A-4527-AE70-0C0500B5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261-4D93-4792-B4F1-626078E7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9653-3277-45ED-8FFE-BFC89E5E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DC88-74A2-43B4-9D41-469A8B32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60D4-F72B-4213-B988-5B066877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2DF5-0FBF-4A47-8257-E531293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5FF2-7D46-4675-8903-B3066AFE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282-2288-4514-B99D-FE492F9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2F14-0B5F-4202-9731-81C11BA1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568-4F2A-4D6F-BEE4-97143FCE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8840-6233-4AEF-9BDE-0D264EC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08A9-F2C4-4DD2-8E42-903D893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0085-B45E-4BBD-BA52-220CE290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7DE7-3392-4BE6-B567-F826A274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7CCD-FB97-417E-8572-F94102A7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FC533-9BA9-42D9-8DAE-57667DBD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9E054-940E-4187-B4D9-C8DD3B15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1DCA1-CF77-49B8-9BBA-F662F2B6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974D5-7239-48BA-B0B8-FB09C3F9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3C6EB-F814-41B7-AD21-8692671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910-0982-4D78-AAD9-04C01043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CC439-1EA9-4981-81B5-908BC1B7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23951-947D-4A5D-A1A8-59A756D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B81B4-99B8-4D98-9072-33A11CE0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202A1-C92A-4A83-97E3-B559041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27F2A-6F1F-4E48-B1D2-1C6814A7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D3F86-1A5D-49EE-B2F6-DA8EFA70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8B1EF-1A03-4D3F-88A4-739DDACF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5210-F2FA-4348-8975-71221AE6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51B6-873C-4A89-82AD-54523A29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4155-C1CE-439A-885F-11393B4D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B98-0438-49BF-8687-FB65D09A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A6E9A-93A5-44EC-AE7D-D05AAB77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A23C-E9CD-411D-8D0C-6C2CF9B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EB1C1-40CF-4052-8D51-AED96120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6B64-67AD-408C-9022-1D9197AC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25BA-37AF-45C1-BF0A-20F58CE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7484-F17D-419D-8405-E824AFD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CF60-1B81-4E08-B5D6-BB14547F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64A82-3B07-40CE-AD17-D8EA4E3E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297A-7C9F-4912-B76B-D4F53E8C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32CDC-CF40-4434-B691-090F61F5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30C-4CD2-4A50-955D-A80EBBE7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77126-F5F9-4817-A8ED-9C85001C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9FA08-8B3B-4A4F-BB38-62D8B324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13CBA-19CA-4E9F-AAD3-EC57BE5A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3DF17-53D1-4645-8CAA-8AE5CFDD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D43E5-2006-4D0F-B817-C2F99B0E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C8DD1-7792-4A28-92BE-EAF5251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D6185-E787-42FC-8676-4211B7A7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60EFB-189D-42BE-9C2A-408A46EF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1D03D-0721-4494-A1B7-224B898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6E0E3-3F0A-4E52-9B6B-E3512CC9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1D2-3EE4-459A-BDF4-9F90684E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08D1D-0B63-463C-9722-B2235395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87607-B253-4A6A-8FC9-6671379B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B0249-F040-4F67-8E97-F5F60734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DC411-7471-424D-9FD0-34F990FC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71095-3B8E-4CAA-8A2F-C4D03F7F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26B59-29FB-4B1B-8491-C7CF6C98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13359-3B39-4557-B042-62ED6CC0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65075-92E4-4C9D-AF5C-04B3EE6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37734-389C-4F71-820F-8295EB0C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BE847-F0EF-4724-980B-E34F8194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5CA-FEC6-4D4F-A734-45DE415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6F73A-8627-4A10-B37E-A45D3461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2A76B-9584-4A16-9E00-1E62D8CB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DC178-F321-4285-AA33-2F0E8E66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37A43-ED56-4D3A-A3D9-04655175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E5C35-8558-43FF-B200-6EDF49B4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31182-BC61-4B83-81D9-57883B8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9019A-D0FF-4685-8BDF-BE6208BE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52E6E-56E9-499B-A9A9-A39E9BDC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320BE-7CA3-4976-806E-FF7CF5F0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3D447-58DB-40AF-A4D3-6EC7747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FC3-9B89-43EB-B4AF-804C03CE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C8B61-60A4-48B0-8D83-6FDE2CB2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1B443-D299-43FC-88D0-2AF47DE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048A0-D6C5-4425-81C3-DF2A33AB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E7FDE-147E-40BB-BDE6-2809C189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CDA1A-ED6C-4917-91D7-6EC1B907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34F-DFCA-4046-A7C3-7BA2FC3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6C4-3345-4285-82ED-D0B85DF218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670D-9349-4750-A76A-FF67A18414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E32F-21FD-4F1C-A6F3-F08B980764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D9FD-8EAF-486B-968B-1BB991EC5E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273-81A3-44E1-A2E6-102E8C0353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E278-AC3E-4AD3-88BA-C56627521C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8495-50BB-4471-83E4-1651F3D5F9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hptv.org/natureworks/nwep8b.htm" TargetMode="External"/><Relationship Id="rId3" Type="http://schemas.openxmlformats.org/officeDocument/2006/relationships/hyperlink" Target="http://buzzle.com/articles/taiga-biome-taiga-animals-and-plants.htm" TargetMode="External"/><Relationship Id="rId4" Type="http://schemas.openxmlformats.org/officeDocument/2006/relationships/hyperlink" Target="http://mbgnet.mobot.org/" TargetMode="External"/><Relationship Id="rId5" Type="http://schemas.openxmlformats.org/officeDocument/2006/relationships/hyperlink" Target="http://blueplantsbiomes.org/world_biomes.ht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6ecff"/>
                </a:solidFill>
                <a:latin typeface="Century Gothic"/>
              </a:rPr>
              <a:t>TAIGA</a:t>
            </a:r>
            <a:endParaRPr b="0" lang="en-US" sz="96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4952520"/>
            <a:ext cx="6172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cff"/>
                </a:solidFill>
                <a:latin typeface="Century Gothic"/>
              </a:rPr>
              <a:t>By Anushka Siewrattan, Kerry McCloskey, and Alyssa Marti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TEMPERATURE AND PRECIPITATION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0520" y="1143000"/>
            <a:ext cx="3505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average temperature is 0°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average precipitation is 100-200 cm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taiga is warmer and wetter than a tundr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taiga has long, severe winters and short, mild summers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Fall is the shortest season in the ta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Flowers grow in spring and many of the animals come out of hibernatio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Summer is a very rainy season in the ta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038480" y="685800"/>
            <a:ext cx="4133880" cy="5505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dgrd.jpg"/>
          <p:cNvPicPr/>
          <p:nvPr/>
        </p:nvPicPr>
        <p:blipFill>
          <a:blip r:embed="rId3"/>
          <a:stretch/>
        </p:blipFill>
        <p:spPr>
          <a:xfrm>
            <a:off x="304920" y="6248520"/>
            <a:ext cx="311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HUMAN IMPAC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 Impact on the taiga i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Acid rain due to pollutio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urning of fossil fuels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Power plants and factories burn coal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he trees get poisoned and lose nutrients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Global warming; organisms have trouble adapting to different climates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Picture 5" descr="http://bioweb.uwlax.edu/bio203/s2009/nelson_lau4/Picea_glauca_taiga.jpg"/>
          <p:cNvPicPr/>
          <p:nvPr/>
        </p:nvPicPr>
        <p:blipFill>
          <a:blip r:embed="rId1"/>
          <a:stretch/>
        </p:blipFill>
        <p:spPr>
          <a:xfrm>
            <a:off x="1219320" y="3657600"/>
            <a:ext cx="6400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PLANTS IN THE TAIGA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240" y="837720"/>
            <a:ext cx="4800600" cy="586764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rsh climate and environmental conditions make it hard for plants to survive in the biom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 Black Spru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st common plant in Taiga because of its ability to grow in poor soil and cold climat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an reach a height of about 25 meter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tree branches are moderately shorter than other conifer tre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black spruces needles are sharp and are about half an inch long with four sides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bark is rough, thick and gray-brown in color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pinecones of spruce are a major food for the birds in Taiga biome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Picture 2" descr="http://www.biologyreference.com/images/biol_02_img0178.jpg"/>
          <p:cNvPicPr/>
          <p:nvPr/>
        </p:nvPicPr>
        <p:blipFill>
          <a:blip r:embed="rId2"/>
          <a:stretch/>
        </p:blipFill>
        <p:spPr>
          <a:xfrm>
            <a:off x="5105520" y="914400"/>
            <a:ext cx="3525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380880"/>
            <a:ext cx="4114800" cy="609624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2. Balsam Fi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alsam fir is a medium-sized; grows up to the height of 80 fee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hallow roots that hardly reach 35 inch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ranches grow at the right angle off the trunk of the tree, the lower branches are mostly dead and droop onto the ground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arks of the tree are resinous, smooth and gray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jor food supplier for deer, moose, squirrels and other inhabitants in cold winter months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Picture 2" descr="http://www.fairplains.com/images/Balsam-Fir.jpg"/>
          <p:cNvPicPr/>
          <p:nvPr/>
        </p:nvPicPr>
        <p:blipFill>
          <a:blip r:embed="rId1"/>
          <a:stretch/>
        </p:blipFill>
        <p:spPr>
          <a:xfrm>
            <a:off x="4648320" y="609480"/>
            <a:ext cx="3276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09480"/>
            <a:ext cx="4038480" cy="594360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3. Jack Pin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Grows to about 27 meters tall, the base almost similar to the height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Young jack pines have reddish colored barks, older jack pines have gray bark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ranches are long, slender that bear needle leave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t is found in cold regions of the taiga that have sandy soil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eaves and pinecones are used as food for the rodents and other animals inhabiting the biome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1" name="Picture 2" descr="http://www.blueplanetbiomes.org/images/jack_pine.jpg"/>
          <p:cNvPicPr/>
          <p:nvPr/>
        </p:nvPicPr>
        <p:blipFill>
          <a:blip r:embed="rId1"/>
          <a:stretch/>
        </p:blipFill>
        <p:spPr>
          <a:xfrm>
            <a:off x="4724280" y="685800"/>
            <a:ext cx="2667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QUESTIONS ABOUT TAIGA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2640"/>
            <a:ext cx="7467480" cy="502596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as of the world is the taiga biome located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y is it so difficult for plants to survive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most common plant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areas of the taiga have a permafrost. What is a permafrost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ow is global warming affecting the biotic factors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average temperature and precipitation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economical values lye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COMMERCIAL VALUES OF THE TAIGA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880" y="838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conomic values are fro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aigas have a lot of trees which is cut down for lumber, toilet paper, copy paper, and newsprint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More then 80% of taiga products are exported from Canada and sold in Americ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People hunt and fish in taig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here is diamond mining and coal mining in some regions of taig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362320" y="3809880"/>
            <a:ext cx="4762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ecff"/>
                </a:solidFill>
                <a:latin typeface="Century Gothic"/>
              </a:rPr>
              <a:t>WORKS CITED</a:t>
            </a:r>
            <a:endParaRPr b="0" lang="en-US" sz="26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1430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iology- Dynamics of Life (National Geographic)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iology- The Sixth Editio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bsite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2"/>
              </a:rPr>
              <a:t>http://Nhptv.org/natureworks/nwep8b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3"/>
              </a:rPr>
              <a:t>http://Buzzle.com/articles/taiga-biome-taiga-animals-and-plants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4"/>
              </a:rPr>
              <a:t>http://mbgnet.mobot.org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5"/>
              </a:rPr>
              <a:t>http://blueplantsbiomes.org/world_biomes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Century Gothic"/>
              </a:rPr>
              <a:t>THE TAIGA…</a:t>
            </a:r>
            <a:endParaRPr b="0" lang="en-US" sz="3600" spc="-1" strike="noStrike">
              <a:solidFill>
                <a:srgbClr val="d6ecff"/>
              </a:solidFill>
              <a:latin typeface="Century Gothic"/>
            </a:endParaRPr>
          </a:p>
        </p:txBody>
      </p:sp>
      <p:pic>
        <p:nvPicPr>
          <p:cNvPr id="361" name="Picture 2" descr="http://www.cas.vanderbilt.edu/bioimages/ecoregions/w50607taiga3506.jpg"/>
          <p:cNvPicPr/>
          <p:nvPr/>
        </p:nvPicPr>
        <p:blipFill>
          <a:blip r:embed="rId1"/>
          <a:stretch/>
        </p:blipFill>
        <p:spPr>
          <a:xfrm>
            <a:off x="990720" y="1371600"/>
            <a:ext cx="65307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BIOME STRETCHES ACROSS A LARGE AREA OF </a:t>
            </a:r>
            <a:br>
              <a:rPr sz="3200"/>
            </a:b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CANADA, EUROPE, AND ASIA.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pic>
        <p:nvPicPr>
          <p:cNvPr id="363" name="Picture 5" descr="Taiga"/>
          <p:cNvPicPr/>
          <p:nvPr/>
        </p:nvPicPr>
        <p:blipFill>
          <a:blip r:embed="rId1"/>
          <a:stretch/>
        </p:blipFill>
        <p:spPr>
          <a:xfrm>
            <a:off x="1219320" y="1600200"/>
            <a:ext cx="66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ecff"/>
                </a:solidFill>
                <a:latin typeface="Century Gothic"/>
              </a:rPr>
              <a:t>TYPES OF ANIMALS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520" y="838080"/>
            <a:ext cx="8077320" cy="28195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awk Ow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s in Canada, extreme Northern U.S, Northern Asia, and Scandinavia in open areas of coniferous fores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as a longer tail than the usual ow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gs are short and point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unt during the day for mice, lemming, squirrels and other small mammals. They also eat birds and insec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buClr>
                <a:srgbClr val="6fb833"/>
              </a:buClr>
              <a:buSzPct val="60000"/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7fd13b"/>
              </a:buClr>
              <a:buSzPct val="80000"/>
              <a:buFont typeface="Century Gothic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5" descr="http://www.birdguides.com/birdnews/docs/OR135175.jpg"/>
          <p:cNvPicPr/>
          <p:nvPr/>
        </p:nvPicPr>
        <p:blipFill>
          <a:blip r:embed="rId1"/>
          <a:stretch/>
        </p:blipFill>
        <p:spPr>
          <a:xfrm>
            <a:off x="1828800" y="3886200"/>
            <a:ext cx="5410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380520"/>
            <a:ext cx="4114800" cy="62485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ine Grosbea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s in Northern Scandinavia, Russia, Asia, Alaska, Canada, and Northern USA in coniferous and mixed fores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arge, long-tail fin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s its heavy bill to crush fruit such as cherries and plums. They also eat seeds, buds, and insec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les and females look different. Females are a more bronzer color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5" descr="http://www.roysephotos.com/zzPineGrosbeak6D.jpg"/>
          <p:cNvPicPr/>
          <p:nvPr/>
        </p:nvPicPr>
        <p:blipFill>
          <a:blip r:embed="rId1"/>
          <a:stretch/>
        </p:blipFill>
        <p:spPr>
          <a:xfrm>
            <a:off x="4648320" y="533520"/>
            <a:ext cx="3343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419360" y="228600"/>
            <a:ext cx="3733560" cy="63244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Lynx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ive in Europe: Scandinavia to Spain and Portugal, east through Asia to Siberia, Alaska, Canada, and Northern US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bitat is Coniferous forests and scrub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hort tails, tufted ears and cheeks, and coat color vari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coming scarce- strictly protected in most countrie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octurnal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talks prey, such as hares rodents young deer and birds, on the ground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5" descr="http://www.nature.org/wherewework/northamerica/states/montana/images/lynx_crop_web.jpg"/>
          <p:cNvPicPr/>
          <p:nvPr/>
        </p:nvPicPr>
        <p:blipFill>
          <a:blip r:embed="rId1"/>
          <a:stretch/>
        </p:blipFill>
        <p:spPr>
          <a:xfrm>
            <a:off x="304920" y="685800"/>
            <a:ext cx="399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04560" y="380520"/>
            <a:ext cx="8001000" cy="25909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uropean Red Squirr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 in Europe, east to China, Korea and Japan in evergreen fores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opulation is abundant in Europe and As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t fungi, fruit, and mostly conifer c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Picture 5" descr="http://ciuk.files.wordpress.com/2007/08/red_squirrel-ray_eye.jpg?w=800&amp;h=543"/>
          <p:cNvPicPr/>
          <p:nvPr/>
        </p:nvPicPr>
        <p:blipFill>
          <a:blip r:embed="rId1"/>
          <a:stretch/>
        </p:blipFill>
        <p:spPr>
          <a:xfrm>
            <a:off x="1523880" y="3200400"/>
            <a:ext cx="5867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600" y="762120"/>
            <a:ext cx="8305920" cy="548640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yn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wide paws that work like snowshoes to help then more better in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rizzly Bea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the ability to hold a protective layer of fat that lets them stay in their dens while its col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ray Wolf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rough and wooly fur coat to have insulation during the wint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long legs and large paws to help them travel through thick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nowshoe Rabbi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toes that can spread out, making look like a snowshoe that help it walk through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28600" y="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GEOLOGIC FEATURES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914400"/>
            <a:ext cx="7162560" cy="26668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ck soil due to co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tinuous belt of cone- bearing coniferous tre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me areas of the taiga have a layer of permafrost (permanently frozen layer of soil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il is very infertile due to acid from conifer needles causing little plant lif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ound is made up of various bog stag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7" name="Picture 5" descr="http://www.wildnatureimages.com/S%20to%20Z/TEK-SUMMER-2..jpg"/>
          <p:cNvPicPr/>
          <p:nvPr/>
        </p:nvPicPr>
        <p:blipFill>
          <a:blip r:embed="rId1"/>
          <a:stretch/>
        </p:blipFill>
        <p:spPr>
          <a:xfrm>
            <a:off x="1676520" y="373392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27:47Z</dcterms:created>
  <dc:creator>xpstudent</dc:creator>
  <dc:description/>
  <dc:language>en-US</dc:language>
  <cp:lastModifiedBy>xpstudent</cp:lastModifiedBy>
  <dcterms:modified xsi:type="dcterms:W3CDTF">2010-10-28T12:15:24Z</dcterms:modified>
  <cp:revision>28</cp:revision>
  <dc:subject/>
  <dc:title>Taiga</dc:title>
</cp:coreProperties>
</file>